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525-DBC7-48BE-98F2-871970E9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8B2-BE2A-4344-8916-F8C4E0BF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8B2-C9DB-4BAB-8644-1D712219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C29-5A51-44A3-A2D9-50B1FA46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FC16-E309-4E63-AFF0-7475A1B2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EC5A-C4C0-4DF1-BC04-DEC7D0D7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45AE-A1E6-4924-B2A9-A3D766DF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AD31-060D-4898-A524-F2D99CC9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6118-F867-41A4-8526-1163D469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794D-2B5B-45A1-942A-96AC97C8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3E3A-4442-4E38-910D-76015176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6D7-EDAE-4333-87D4-E3BD7031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FE9D-10F4-4AF6-8FF6-C72B621B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AA21-389F-44DA-BF46-5282DC5F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B8DE-9272-45AD-9524-C5A185D0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9E0A-E9EC-4DD9-B169-54A223DE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8729-02FF-4CCD-896A-D3E7A04A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70D-69F1-4919-B5A3-0C0B998E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1FD-EF45-46BB-8F46-EA97DFF5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239-041B-4CB2-8DA0-4559CDFA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7F5-761D-4820-A4CC-32E58EAD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BC9-8376-4DFE-9E64-B688EB2C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943-C739-4927-84A2-27F52E3D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B7F-8DE2-4865-9A8B-F92A3DBF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033F-11C3-47F9-A58B-23764464FB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47E5-5CA8-4ABF-8E9A-54FE42E5FC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133720"/>
            <a:ext cx="7429680" cy="4295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5400" spc="-1" strike="noStrike">
                <a:solidFill>
                  <a:srgbClr val="000099"/>
                </a:solidFill>
                <a:latin typeface="Comic Sans MS"/>
              </a:rPr>
              <a:t>Т</a:t>
            </a:r>
            <a:r>
              <a:rPr b="0" lang="ru-RU" sz="5400" spc="-1" strike="noStrike">
                <a:solidFill>
                  <a:srgbClr val="000099"/>
                </a:solidFill>
                <a:latin typeface="Comic Sans MS"/>
              </a:rPr>
              <a:t>ригонометрические функции</a:t>
            </a:r>
            <a:br>
              <a:rPr sz="54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втор проекта:   Савинов А.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уководитель:  Торопова Е.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1285920"/>
            <a:ext cx="6840720" cy="46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5400" spc="-1" strike="noStrike">
                <a:solidFill>
                  <a:srgbClr val="0070c0"/>
                </a:solidFill>
                <a:latin typeface="Comic Sans MS"/>
              </a:rPr>
              <a:t>Проблемный вопрос: </a:t>
            </a:r>
            <a:br>
              <a:rPr sz="5400"/>
            </a:br>
            <a:br>
              <a:rPr sz="5400"/>
            </a:br>
            <a:r>
              <a:rPr b="0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 правильно строить графики тригонометрических и обратных функций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ыяснить как строить строится график функции С</a:t>
            </a:r>
            <a:r>
              <a:rPr b="0" lang="en-US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s(f(x))=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1000080" y="428760"/>
            <a:ext cx="75726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Ход работ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что собой представляет функц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ся с областью определения и областью зна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пример построения одной из функц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учебник Алгебра 8 класс. Макарычев Ю. 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28880" y="571680"/>
            <a:ext cx="50004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ме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Y=Cos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x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2090880"/>
            <a:ext cx="6210360" cy="31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13840"/>
            <a:ext cx="687060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omic Sans MS"/>
              </a:rPr>
              <a:t>Вывод: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Чтобы построить график функции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Y=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С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os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(x))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2571840"/>
            <a:ext cx="80247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ти область определения Функ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троить 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x)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а промежутк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;П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разить график относительно прямой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тератур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ебра в таблицах. 7-11 кл.:Л.И.Звавич, А.Р.Рязановский.-М.:Дрофа 2004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. М. Гельфанд, С.М.Львовский, А. Л. Тоо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Тригонометрия. М.: МЦНМО, 2003. — 200 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2:18:38Z</dcterms:created>
  <dc:creator>илья</dc:creator>
  <dc:description/>
  <dc:language>en-US</dc:language>
  <cp:lastModifiedBy>илья</cp:lastModifiedBy>
  <dcterms:modified xsi:type="dcterms:W3CDTF">2010-05-30T13:36:20Z</dcterms:modified>
  <cp:revision>18</cp:revision>
  <dc:subject/>
  <dc:title>Методы решения тригонометрических уравнений</dc:title>
</cp:coreProperties>
</file>